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7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21.png" ContentType="image/png"/>
  <Override PartName="/ppt/media/image24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78E-8331-4BF2-BF5B-D4B25C30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677-E600-4667-A0E4-12599A71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57A-F8FC-4284-90E1-53A73024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6E6-1A38-4563-A419-F975FF5F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C5D0B-77BB-4358-A8DB-F6F2D0C0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AAE2F-08FB-4DD0-8240-97B807DA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61B22-AD22-4EAE-9401-8C514C70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BB0E2-107B-41F5-AB39-E2EBD4DE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F3A9D-0EF7-4790-BCD5-AF40E15A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6CA4D-EE56-43DD-A695-C82DF800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D8A5B-3757-4EA5-B019-6F225794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70D4-3073-4CBE-9756-F5F79938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DD41D-61C0-4D14-B21A-3B043F3A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EB877-00A6-43DE-947A-19B404BE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920AC-FB55-4629-830D-FCA53020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11BE8-D498-43A7-9FD4-65604261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048DD-6430-4DBC-BA8C-AF9D6265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92FBB-191D-4878-BBA7-B585DCA6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0FA02-110D-4F57-86BE-3FBA578D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E334-3D09-42C4-959A-83656FEA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77C2E-34AF-49BD-9CAA-561F4F6A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D903-49D8-4DD0-A069-7CD3FE6C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6B3-3B08-4D47-86FB-52BF6161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737BA-FD18-4E86-82CB-B303BDF9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8D99-D253-4EFE-931F-02708C51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77D3F-8051-4927-8DA5-A6CBD8F7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D38D3-EEAE-498A-A9B8-FEFD1640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87616-5A70-4A96-8562-C1B136FA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4EB5-B19E-425A-AF22-5408E28D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9FB0-DB06-4F9C-B329-E1D98F53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E1D8EB-D307-4D80-AA7B-3CC0BDC1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1F0E6A-770C-486E-A4F5-44CD98C2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CDCE47-4207-4C6A-90B6-CF3C431D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A64D-07E4-4BA4-B1F9-197EE33C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D8B8C-9079-4A02-95D6-4BF45359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575A6-667B-4949-AD49-3E782289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9748D-DCFD-4B9C-B00F-F1CA1589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A241F8-F25C-4D35-8D0C-75EDB272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C0D7FB-4689-4009-B923-C0B48266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2DC15E-91C5-4E59-8D6F-CD7C47E2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59903-7EA0-49C0-AC7A-4B1F6664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648A98-C165-4F37-9660-E4AF5A22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9A2FCB-4190-490B-BAAE-35494C42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BBF719-DAB0-40FD-9505-5DB36202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A17-9DBC-4F2C-B7AD-790F22D7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8D866-B959-4AA2-8C82-F29D22AC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3BA3E-4113-422A-A18A-D4FCEEDA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2C1F8-4B5A-4CC6-AD59-12234F2F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2BF4B-AD40-4289-B0F8-2471FA1B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B63AA-F09D-41A4-BC0A-BFADC9CD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A1E83-76F4-4DAF-9000-01C49F7B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DDB63-6829-418A-A8E7-68713A2C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2E354-8E0A-4783-92D2-C9D55108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353B0-3D2A-46EF-90AC-D03F68AC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2837A4-F0BA-4E57-AD3A-254CEEE2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970-9B20-4171-AB82-AF31E916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8684A-C317-4E83-B629-AE1491DC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38735-E29D-4DEF-8982-A5B7070B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942C9-FA7F-4715-A978-31D2E959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11608B-167B-4E19-9214-F9528BD2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8586B-2603-43C8-A21D-E1CFE02A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5332DE-5DF1-4C6D-A15A-D9A4A49A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4C939-195A-4C22-95B7-99FB868E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EA9A6D-101A-48D1-A6DA-B2D8CF07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D5F77-BE77-44B5-A2D0-0D95CECA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5889DC-2231-4996-A516-3DE94BBF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5250-1D09-4C62-B486-861AD644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76A32-9B92-4339-8A31-28FDA8D0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BFE56-82B7-4B98-B6F0-4EC5E866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45284C-476F-46F5-8DDC-6A8AF84E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F45-FDE1-4BCF-A21B-CFF0FC90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AD8-516F-40BF-AAD8-6AB55223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B91EF-A153-40C0-B3A8-8CADBE57CCC9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B6E8A-E331-4E5E-BB93-C34E199BF6B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81672-AAB7-4676-86D9-EF9B797856FF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5FE2F-B036-4087-B6EB-CA9091D8BF4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71EFE-FD6D-4BD8-A0E7-7B87465D8A3A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0F4CA-5C77-4D88-BE8F-5A83EFDBC4B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D788C-1B79-4DB7-8BFE-20CC64608D9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E7114-4B26-4CD5-AAF5-D58B98FB6C2D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4143E-FF67-40A2-9204-B87F9FCCC468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85A20-25C7-476C-A136-E8969ED7DA6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6AC85-DE48-403F-82B2-4A8A04AE73C1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05B2B-60BD-48FE-8ADF-2F11BD71D5D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Terror on the Western Front: Death, Destruction and Dismemberment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1528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,400 guns packed along the eight mile front, served by nearby railway facilit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00, 000 shells poured into Verdun every hou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Intention?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ill as many French defenders as you can before an infantry adva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the end of the first day, German forces had only captured front line trench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9f9f9"/>
                </a:solidFill>
                <a:latin typeface="Constantia"/>
              </a:rPr>
              <a:t>Artillery at </a:t>
            </a:r>
            <a:br>
              <a:rPr sz="3800"/>
            </a:br>
            <a:r>
              <a:rPr b="0" lang="en-US" sz="3800" spc="-1" strike="noStrike">
                <a:solidFill>
                  <a:srgbClr val="f9f9f9"/>
                </a:solidFill>
                <a:latin typeface="Constantia"/>
              </a:rPr>
              <a:t>Verdun</a:t>
            </a:r>
            <a:endParaRPr b="0" lang="en-US" sz="3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55640" y="2973240"/>
            <a:ext cx="7620120" cy="3152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3813120" y="237960"/>
            <a:ext cx="45626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ench Lieutenant Colonel, Emile Driant had been killed and his battalion had been reduced from 600 to 180 me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rmany lost some momentum, after infantry is withdrawn to allow further artillery bombard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rench situation was pretty ba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pon losing Douaumont, the French sentiment was one of unwavering resol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&gt; Popular sentiment demanded its recapture, making a withdrawal from Verdun impossib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rench commanding officer, Joffre, issued a warning stating that anyone leaving would be court-martial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2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French Soldier killed at Verdun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troversial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taged or true?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00720" y="1371600"/>
            <a:ext cx="40100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 the remainder of the next few months, German attacks were met with counter attacks, with casualties mounting on both sid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the time the battle ended almost 1 million casualties were tallied in roughly equal numbers for both sid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7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Death in the trenches at Verdun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258920" y="1371600"/>
            <a:ext cx="59770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ench forts could only hold out for so long, reserves of water were gone, and the forts themselves begin to crumb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New chemical warfare: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rmany, at this point, began unveiling phosgene gas, which was acted by forming hydrochloric acid once in the lung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2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an attempt to drain German manpower from Verdun, a major offensive was staged elsewhere at the Battle of the Som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iginally planned to begin August 1, it was moved to July 1 to help divert German resources elsewhe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Fortune come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a sudden drain in German resources to the Eastern Front provides a sense of vindic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the time it ends casualties were listed at 550, 000 French losses and 434, 000 German lo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The only impact?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ounding of both armies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5" name="Text Placeholder 8" descr=""/>
          <p:cNvPicPr/>
          <p:nvPr/>
        </p:nvPicPr>
        <p:blipFill>
          <a:blip r:embed="rId2"/>
          <a:srcRect l="11119" t="4169" r="10155" b="7294"/>
          <a:stretch/>
        </p:blipFill>
        <p:spPr>
          <a:xfrm>
            <a:off x="457200" y="549360"/>
            <a:ext cx="793116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membered primarily for the unparalleled loss of lif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58, 000 British troops killed on the first day alone, July 1, 191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imary scope of the battle was to drai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German forces of reserves, and also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gain territor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ttack actually began on June 24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ith an eight day bombardment of German lin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8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620040" y="2933640"/>
            <a:ext cx="20667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9f9f9"/>
                </a:solidFill>
                <a:latin typeface="Constantia"/>
              </a:rPr>
              <a:t>The Somme – North Eastern France</a:t>
            </a:r>
            <a:endParaRPr b="0" lang="en-US" sz="3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042920" y="1371600"/>
            <a:ext cx="71722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View from Elevated trenche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187280" y="1447920"/>
            <a:ext cx="66675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expectation of this was that German defenses would be destroyed, enabling British troops to walk across no man’s lan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,500 British guns were employ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750, 000 men went into the attac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One proble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many of the advance artillery munitions were ‘duds’ –poorly made and ineffecti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British Trenches – “Over the Top”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258920" y="1447920"/>
            <a:ext cx="626436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attack was of no surprise to the Germans, in fact the eight day bombardment served merely to alert Germans of an imminent attack.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HOW CAN THE ALLIES EFFECTIVELY COORDINATE AN ATTACK?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majority of soldiers who went over the top were killed instantly, or forced back into their trenches by machine gun fi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the end, poor weather had brought a halt to the Somme on November 1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2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ritish and French had gained 12 kilometers of groun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ritish casualties were estimated at 420, 0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ench casualties were 200, 0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rman casualties were around 500, 0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ritics argue that an inflexible approach was a main issue, or that the British were compelled into battle to relieve the French at Verdu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4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ad Handout and answer this question in one pag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w do we assess responsibility for such an immense, unnecessary, loss of life?”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6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" descr="Douaumont Ossuary at Verdun"/>
          <p:cNvPicPr/>
          <p:nvPr/>
        </p:nvPicPr>
        <p:blipFill>
          <a:blip r:embed="rId2"/>
          <a:stretch/>
        </p:blipFill>
        <p:spPr>
          <a:xfrm>
            <a:off x="1116000" y="94140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3"/>
          <a:stretch/>
        </p:blipFill>
        <p:spPr>
          <a:xfrm>
            <a:off x="457200" y="6094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 Christmas day 1915, a letter is sent to Kaiser Wilhelm I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letter outlines that the key to winning the war was not to be found on the Eastern Front, but on the Western Fro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Rationalization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f France could be defeated, Britain would also seek terms, or be defeated as wel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rmany believed that Britain formed the foundation of the Allied effort, and must be remov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gan implementing a policy of unrestricted submarine warfare against British shipping in an attempt to starve Britain ou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Proble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This ran the risk of bringing the U.S. into the w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erdun, itself, held specific meaning to the Fren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was the last fortress to fall during the Franco-Prussian war, and it had been improved si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nce, it was of great symbolic significance and maintained a psychological hold on the minds of the French peo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rmany knew this… and counted on it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f9f9f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9f9"/>
                </a:solidFill>
                <a:latin typeface="Constantia"/>
              </a:rPr>
              <a:t>Start</a:t>
            </a:r>
            <a:endParaRPr b="0" lang="en-US" sz="44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Finish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635280" y="476280"/>
            <a:ext cx="4391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bject Verdun to intense bombardment to draw in and divert French troops from all over the Western Fro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eed France white” until it can stand no long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Formidable opposi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1 million Germans vs. 200, 000 defend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ttle begins: 07:15 on February 21s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3:56:56Z</dcterms:created>
  <dc:creator>Office 2004 Test Drive User</dc:creator>
  <dc:description/>
  <dc:language>en-US</dc:language>
  <cp:lastModifiedBy>nbdoe</cp:lastModifiedBy>
  <dcterms:modified xsi:type="dcterms:W3CDTF">2010-04-22T16:09:46Z</dcterms:modified>
  <cp:revision>11</cp:revision>
  <dc:subject/>
  <dc:title>Verdun and the Somme</dc:title>
</cp:coreProperties>
</file>